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F4F-A236-49BC-BA15-CA25E6E6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553-F136-47FF-A7A4-B76549F4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1A7-A413-454C-B5D7-5F952BCC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FB7-FDED-4FFC-95EE-526A5319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36B1-30FF-4F65-BF76-0454FFAF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80B5-4F4A-4A8F-9073-91ACC7DA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7F11-55BF-4399-A2FE-3060695C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8F50-398C-4A34-86F5-A4248C9C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BCDC-90C4-4038-8913-E1413FDD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46F3-23B7-448C-B108-5A1916DC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F580-C08C-46F9-88B5-2FECBB72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8C5-AF5F-460A-995C-06C82E6D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0846-720C-4568-91C6-2AB3E0C9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2C90-FA88-4F86-8561-2FC122AD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B6F5-B7AD-4B02-869D-C352CE9B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A5C1-AECB-483E-88B8-37836547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0957-3D15-4D7D-A02E-5014ED9C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2713C-39D3-4FBA-9920-CBFBB396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922AB-C11D-4E99-A97A-8FF4B9D2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F63E2-80F7-4A45-98E4-A2D61E3A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FE1B-27EC-458E-87FA-74A13A81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3DE7-7C12-444A-879D-54347EB3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86C-7C3C-4A1E-964B-B882C5CE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C6AA-3E7D-4768-AF54-218A5C6B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17FD-48A6-4A25-8B9A-76EDBD1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124C6-F347-4518-BD28-127501A0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2693-F853-4362-A16E-EC49CB6C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2A2F-B0A7-4D06-BE9D-B1DE7F5F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0544-2016-4B66-9CCD-E36244D9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3D7D-597E-4665-9CBA-F7DF034C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D0F3D-92F8-47C8-9EC9-E61603FE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28D9E-3C6D-4BF4-B8C6-FC0723B1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75707-4301-4F40-B6C9-AE61C5CA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194-EDD4-498E-8310-1B04575F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2F3D8-1206-48BF-901E-7FF8FC23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A2190-1C2E-4D38-901C-22948FCE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21FC1-C1E1-45EE-9667-2E2D881B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1794-919D-407D-A249-44C9AA4C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A435-1E7F-4F29-8852-1BB9F85D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D546-1106-4579-AFFB-C049DA29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0211-A579-4BDF-9788-35D1B068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FBBCF-B01E-4225-87D4-86307288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07FEF-2F66-4CFA-8D0B-CDAE703D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30F52-421D-479D-B5AE-F83DEE70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011-A110-4D1B-B7A7-8DA0C1D3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8F36A-406F-4B38-9890-2442FF81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2B8BC-41E0-40FE-8D12-D7A7DA98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FC26-A2BE-400C-951F-9C233B4E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E8A81-6591-402C-9F5D-593F475B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DBE4A-5C46-475B-8318-351869D8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D2C81-DE59-4E0C-9BB4-1B12D03E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44FCD-B117-461D-9FEE-A313172D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07DDF-C543-49EC-90D3-AF2BE1F8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EEB5-75F7-45DA-99F4-02B97CA4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2A360-A8DE-4042-8093-759C5012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311-297F-4F76-9981-33DC71BE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3D2E-E8AE-4896-902C-D52579FB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424-2DD1-4CF8-B28C-0EC1A83D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AA4-73AC-40AE-9ADF-40EF53BA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E97-85BF-450A-BCAC-CF37D987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BA1F-5429-4A80-A03B-312F1652FEC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EA7E-EBE1-4FAA-88DF-2A9F2FC70C9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269C-7E65-4B6C-9165-3C33C60DF97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8691-CFAE-464F-B198-1DAE69C9C692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0BE8-E959-4FD0-81E1-4D521E48862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ow can we stop it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reate a power point that summarizes what you have learned about bullying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fine what bullying 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C:\Documents and Settings\prelib\Local Settings\Temporary Internet Files\Content.IE5\C8ISIV8L\MC900088740[1].wmf"/>
          <p:cNvPicPr/>
          <p:nvPr/>
        </p:nvPicPr>
        <p:blipFill>
          <a:blip r:embed="rId2"/>
          <a:stretch/>
        </p:blipFill>
        <p:spPr>
          <a:xfrm rot="702000">
            <a:off x="5486400" y="3047760"/>
            <a:ext cx="177012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st ideas or suggestions for your read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/don’t d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C:\Documents and Settings\prelib\Local Settings\Temporary Internet Files\Content.IE5\36G5VXSG\MP900448485[1].jpg"/>
          <p:cNvPicPr/>
          <p:nvPr/>
        </p:nvPicPr>
        <p:blipFill>
          <a:blip r:embed="rId2"/>
          <a:stretch/>
        </p:blipFill>
        <p:spPr>
          <a:xfrm>
            <a:off x="4800600" y="1447920"/>
            <a:ext cx="2997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ctions or behaviors you will try to d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mmarize what your slide show is all abou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2:58:44Z</dcterms:created>
  <dc:creator>techadmin</dc:creator>
  <dc:description/>
  <dc:language>en-US</dc:language>
  <cp:lastModifiedBy>techadmin</cp:lastModifiedBy>
  <dcterms:modified xsi:type="dcterms:W3CDTF">2010-11-08T14:16:04Z</dcterms:modified>
  <cp:revision>4</cp:revision>
  <dc:subject/>
  <dc:title>Bullying</dc:title>
</cp:coreProperties>
</file>